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023F-A34E-4838-9164-D310E168B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C0C6-A9F9-496B-B7FB-366A869E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5CDF-FE63-47AC-A7A9-441EB105F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1C93-B43A-47B4-AADF-CA4243BE3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3FB6-28FB-4D70-8DFC-BA490BE8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4DC0-BACC-4326-945B-C2BAEDA1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085E-27D2-4413-89BD-FDE1FC80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5DD0-C8BE-4C21-994B-E7A401E1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F6C3-D768-4BFB-A11A-35CD90A1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1AED-BD9E-471F-A3FE-8AC252F7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18E2-F799-4714-A1A5-DA5CE8E4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DAFE-4755-4B98-91C0-422568D5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87F2-4749-4125-AF35-FE3192F82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in a “Sna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say the word that appears before I 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liv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ma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our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say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after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show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small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ell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hing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wan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any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aroun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boy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every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follow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giv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4:32:00Z</dcterms:created>
  <dc:creator>Wake County Public Schools</dc:creator>
  <dc:description/>
  <dc:language>en-US</dc:language>
  <cp:lastModifiedBy>jabdella</cp:lastModifiedBy>
  <dcterms:modified xsi:type="dcterms:W3CDTF">2010-02-14T18:44:18Z</dcterms:modified>
  <cp:revision>5</cp:revision>
  <dc:subject/>
  <dc:title>Words in a “Snap”</dc:title>
</cp:coreProperties>
</file>